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.png" ContentType="image/png"/>
  <Override PartName="/ppt/media/image8.jpeg" ContentType="image/jpeg"/>
  <Override PartName="/ppt/media/image13.jpeg" ContentType="image/jpeg"/>
  <Override PartName="/ppt/media/arrow.wav" ContentType="audio/x-wav"/>
  <Override PartName="/ppt/media/image10.png" ContentType="image/png"/>
  <Override PartName="/ppt/media/image6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2F9-9A16-431B-9C2B-865C8CD4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E17-21DE-4119-B646-15EEBCE0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791-20D9-49C9-BEB3-B5C41FBF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FFB-E697-4830-851B-B27A2840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1A51-430B-4F01-A6FE-A04B178F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7047-CEC5-4004-A63A-DCAE2F9F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D551-9257-4973-A296-D2B9876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E719-3995-4749-8224-24A95D7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1E9C-D2DD-450D-95B7-DA19F81B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9AB-01C4-42B5-8FC8-09332BA4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02CB-B04E-4462-9A09-E47E349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587-F165-45CF-A2AA-B7B7741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8312-71A0-4A9B-B71B-20A8976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247-BEA7-4E57-A0E9-5A3FCD3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2E1-58EE-4BEE-9D85-4E16C455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7F6-F1C4-4088-8851-69426DE2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8833-CB79-42CF-B99C-D1F605A4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267-F538-437F-8613-7697595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968-01C8-4402-A17B-D1281A2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7DF-72E8-4612-8816-A3B1E6A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D9F-DFA8-4C99-A90E-5C01411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5C1-D661-4767-A9FF-B38CBA7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E6B-C800-4B1D-97F2-CA870F8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81E-5E4F-4CFC-AA74-63BC7DA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CB6-166C-4FD2-AEF1-AD0D1D4413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E32-7EC1-4653-B610-38B58E1DE9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hyperlink" Target="http://en.wikipedia.org/Russian_Railways" TargetMode="External"/><Relationship Id="rId5" Type="http://schemas.openxmlformats.org/officeDocument/2006/relationships/hyperlink" Target="http://en.wikipedia.org/wiki/Rail_transport_in_Russia" TargetMode="External"/><Relationship Id="rId6" Type="http://schemas.openxmlformats.org/officeDocument/2006/relationships/hyperlink" Target="https://www.cia.gov/library/publications/the-world-factbook/geos/rs.html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8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alibri"/>
              </a:rPr>
              <a:t>Did you kn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ussia has the fifth most airports in the world, with 1,213 airports in tota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also 50 helipor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593 airports with paved runways, and 620 with unpaved runway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pipelines in Russia that transport things like fue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4097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4"/>
              </a:rPr>
              <a:t>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ail Transport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16 December 2010. 20 December 201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en.wikipedia.org/wiki/Rail_transport_in_Russia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13 December 2010. 20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6"/>
              </a:rPr>
              <a:t>https://www.cia.gov/library/publications/the-world-factbook/geos/rs.html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V-Road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- Did You K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places i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Russia. For example, there are rivers like the Volga River, O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River, and the Lena River. Seas and oceans that border Russ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include the Baltic Sea, Sea of Okhotsk, Bering Sea, and the Arct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Ocean. Russia has the second largest waterway system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in the world, with 102,000 km or waterw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 are seven major seapor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Russia. -Kaliningrad-St. Petersbur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khotsk-Murmansk-Vladivosto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trakhan-Petropavlovsk Kamchatsk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 problem with these ports i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at they are spaced far apart from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ach other. Ships have to travel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nother 200 miles to get the mo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land part of Russia, w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aliningrad is located. Then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hippers have the choice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vel another 500 miles to the por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f St. Petersburg. This consum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ts of time, fuel, and therefo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ney. However, taxes have bee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ut for foreign goods coming in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aliningrad, saving money,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ossibly increasing trad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 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(continued)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hip called a icebreaker is used to separate the i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ways in Russia account for  2.5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% percent of Russia’s GDP, o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ross Domestic Produc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o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ssian Railway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s mostly stat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un. Russian Railways is one of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iggest railway companies in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orld, with 0.95 million employe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monopoly within it. In fact,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tal length of the line is 85,00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ilometers (53,130 miles), on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rpassed by the United Stat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way syst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 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(continued)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. In 2007, 1.3 billion passengers and 1.3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oad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361960"/>
            <a:ext cx="769320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oadways allow cars to travel from place to place. Russia has the eight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ongest roadway system in the world, with a total of 940,000 kilometers o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oadways. There are 754,000 km of paved roads, and 186,000 km o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npaved roads. In the winter, black ice can form on the roads, caus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rs to lose control and crash, so cars are built to withstand win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eather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21T02:16:08Z</dcterms:modified>
  <cp:revision>51</cp:revision>
  <dc:subject/>
  <dc:title> </dc:title>
</cp:coreProperties>
</file>